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273626"/>
        <c:axId val="24295866"/>
      </c:barChart>
      <c:catAx>
        <c:axId val="892736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95866"/>
        <c:crosses val="autoZero"/>
        <c:auto val="1"/>
        <c:lblAlgn val="ctr"/>
        <c:lblOffset val="100"/>
        <c:noMultiLvlLbl val="0"/>
      </c:catAx>
      <c:valAx>
        <c:axId val="24295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736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FC0-60C8-4117-BB40-994FB9D1F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145-C7D8-41CD-B93B-9CA9C31A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4E2-4689-4145-8521-D91942D9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109-3B54-424F-BD76-E25FBACB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CA3-7ACC-45F0-9909-70289AA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5F1-2BCC-401C-8832-3B2C9801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BB3-409E-4C52-8721-705BC457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191-C2AE-42C9-AF2B-196D87B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052-7618-4C36-960A-7D0AF5BC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4A5-5C33-4542-94E1-980F0475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A2D5-39F9-422A-A381-3B227C1F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CE8-D4B4-4293-919F-BD5CF18B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158FE-9605-4818-A832-8266CA5234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