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56536"/>
        <c:axId val="91638435"/>
      </c:barChart>
      <c:catAx>
        <c:axId val="53556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38435"/>
        <c:crosses val="autoZero"/>
        <c:auto val="1"/>
        <c:lblAlgn val="ctr"/>
        <c:lblOffset val="100"/>
        <c:noMultiLvlLbl val="0"/>
      </c:catAx>
      <c:valAx>
        <c:axId val="91638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56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2FD-FBE3-40ED-9DAB-0A767D40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22C-4B0A-40DF-AAC2-5784133B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5D3-C564-4D37-9B3B-31470515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89E-8E4B-4ADA-8074-FF0D9F4F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5C4-3726-4D57-9227-9C136CA9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0A1-444F-4DC5-BB80-6AA77E5C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F85-5E1C-4C98-8037-1D48988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6DE-AD68-4D13-8A6C-53CD23A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B24-753F-4ACB-A38D-0952ECE1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727-3045-45F8-B52F-FEACC07E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4BC-3A22-4B32-A19D-B386BBF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91E-7FE4-4C61-BCAC-36A33A1B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6DA85-6BF5-45B4-8994-6AD597354C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