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07236"/>
        <c:axId val="59074841"/>
      </c:barChart>
      <c:catAx>
        <c:axId val="97207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74841"/>
        <c:crosses val="autoZero"/>
        <c:auto val="1"/>
        <c:lblAlgn val="ctr"/>
        <c:lblOffset val="100"/>
        <c:noMultiLvlLbl val="0"/>
      </c:catAx>
      <c:valAx>
        <c:axId val="59074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07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9E4-80A3-4850-AC78-9A778C3D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F82-D5B4-43E1-BB1D-FF5E6B26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E40-CB30-4BB7-A063-915ED968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536-864C-44A9-ACF2-B5F4ED0A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D127-3B81-4B07-8375-B039D28F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A85-C40E-451B-8A1D-FC4F5BD6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1F4-79B7-430E-80FD-FD6EB4FC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19C-64D0-4851-A3D3-8C535BFD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390-2AD3-4B62-A8B4-73E6BD0F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134-5915-41F5-8D0C-07BBA4E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E34-F9D1-4425-B21D-B44A3F64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B0A-78F9-4C00-A2F2-DBD327DF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FCFC1-42A4-43CE-A781-C2488DBC03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