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779516"/>
        <c:axId val="49955509"/>
      </c:barChart>
      <c:catAx>
        <c:axId val="327795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955509"/>
        <c:crosses val="autoZero"/>
        <c:auto val="1"/>
        <c:lblAlgn val="ctr"/>
        <c:lblOffset val="100"/>
        <c:noMultiLvlLbl val="0"/>
      </c:catAx>
      <c:valAx>
        <c:axId val="499555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7795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B208-255B-406D-9103-A9DC0787C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7B16-CF4B-456B-A99A-762B02C16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2DED-8B6B-4CF3-AC91-3613903F1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EE96-84C0-4B89-BB75-38BDCFEFE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FB43-BC0A-4B94-A3CE-E48BD4687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CC7C-5EF8-4138-9C9D-9D7DEB575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F3E5-411C-4250-9CA0-0915DBDEB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8575-1711-4CF3-A32C-F57B12DC2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E88E-0DAD-45E0-9A0E-F500B9188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CC5B-AEBA-4840-99AC-E09D58375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F3EC-6C4F-47E6-AF29-8F8D2AD6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BFDA-3B36-4C35-987D-217B0AA7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D73AA0-3C8E-4F12-BED1-1F21B3EBB50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