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4E5-1591-47F1-B1ED-E759E256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BEC-2D9C-4ED5-BE12-A57E409A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D2B-DC95-426B-BE31-2E145786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1E3-619D-4ACA-906E-5650C7B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9ED-3129-4D56-A65E-9BD97BA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48E-4908-48DA-A419-E04381C6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59E-AC81-4F83-9961-245DDD8C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124-917F-4A9A-9141-DD55A9E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799-DECD-4B54-8048-17AF1B8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5D0-32EA-44D5-86A0-8AC4E008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BFB-D78A-45BD-9139-B6D41F4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D89-DBE0-4C30-BAB4-059EBD3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C8A-6BEA-4417-BA65-41A4D3EED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1676520" y="990720"/>
            <a:ext cx="57150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038480" y="1600200"/>
            <a:ext cx="1295640" cy="3048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562720" y="1981080"/>
            <a:ext cx="1295280" cy="228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72400" y="2209680"/>
            <a:ext cx="1066680" cy="6098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772400" y="39625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52480" y="1600200"/>
            <a:ext cx="2057400" cy="2666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35053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 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1911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11480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981080" y="22096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3623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1981080" y="2819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1981080" y="35812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 flipH="1">
            <a:off x="2588760" y="266868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1371600" y="38098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3276720" y="22096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3276720" y="281952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hape 28"/>
          <p:cNvCxnSpPr>
            <a:endCxn id="47" idx="2"/>
          </p:cNvCxnSpPr>
          <p:nvPr/>
        </p:nvCxnSpPr>
        <p:spPr>
          <a:xfrm flipV="1" rot="16200000">
            <a:off x="3295440" y="3752280"/>
            <a:ext cx="228600" cy="1257840"/>
          </a:xfrm>
          <a:prstGeom prst="bentConnector3">
            <a:avLst>
              <a:gd name="adj1" fmla="val -78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9"/>
          <p:cNvSpPr/>
          <p:nvPr/>
        </p:nvSpPr>
        <p:spPr>
          <a:xfrm>
            <a:off x="236232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 citizen sees all returne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638680" y="2068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31"/>
          <p:cNvSpPr/>
          <p:nvPr/>
        </p:nvSpPr>
        <p:spPr>
          <a:xfrm>
            <a:off x="5715000" y="2666880"/>
            <a:ext cx="990720" cy="12956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unction Valu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hape 33"/>
          <p:cNvCxnSpPr>
            <a:stCxn id="43" idx="2"/>
          </p:cNvCxnSpPr>
          <p:nvPr/>
        </p:nvCxnSpPr>
        <p:spPr>
          <a:xfrm rot="5400000">
            <a:off x="5657400" y="3943080"/>
            <a:ext cx="228960" cy="876960"/>
          </a:xfrm>
          <a:prstGeom prst="bentConnector3">
            <a:avLst>
              <a:gd name="adj1" fmla="val 1006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34"/>
          <p:cNvSpPr/>
          <p:nvPr/>
        </p:nvSpPr>
        <p:spPr>
          <a:xfrm>
            <a:off x="5410080" y="44956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returned as evaluation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hape 38"/>
          <p:cNvCxnSpPr/>
          <p:nvPr/>
        </p:nvCxnSpPr>
        <p:spPr>
          <a:xfrm>
            <a:off x="5334120" y="1752120"/>
            <a:ext cx="87696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9"/>
          <p:cNvSpPr/>
          <p:nvPr/>
        </p:nvSpPr>
        <p:spPr>
          <a:xfrm>
            <a:off x="5486400" y="122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submitted when workers become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 flipV="1">
            <a:off x="6858000" y="1752480"/>
            <a:ext cx="9144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4"/>
          <p:cNvSpPr/>
          <p:nvPr/>
        </p:nvSpPr>
        <p:spPr>
          <a:xfrm flipV="1">
            <a:off x="6858000" y="2514240"/>
            <a:ext cx="914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6858000" y="3124080"/>
            <a:ext cx="914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077320" y="299556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85800" y="4114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0"/>
          <p:cNvCxnSpPr>
            <a:stCxn id="58" idx="6"/>
            <a:endCxn id="50" idx="1"/>
          </p:cNvCxnSpPr>
          <p:nvPr/>
        </p:nvCxnSpPr>
        <p:spPr>
          <a:xfrm>
            <a:off x="3733920" y="2438280"/>
            <a:ext cx="72144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Straight Arrow Connector 52"/>
          <p:cNvCxnSpPr>
            <a:stCxn id="59" idx="6"/>
            <a:endCxn id="50" idx="2"/>
          </p:cNvCxnSpPr>
          <p:nvPr/>
        </p:nvCxnSpPr>
        <p:spPr>
          <a:xfrm flipV="1">
            <a:off x="3733920" y="2895840"/>
            <a:ext cx="60984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Straight Arrow Connector 54"/>
          <p:cNvCxnSpPr>
            <a:stCxn id="60" idx="6"/>
            <a:endCxn id="50" idx="3"/>
          </p:cNvCxnSpPr>
          <p:nvPr/>
        </p:nvCxnSpPr>
        <p:spPr>
          <a:xfrm flipV="1">
            <a:off x="3733920" y="3165120"/>
            <a:ext cx="72144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" name="TextBox 37"/>
          <p:cNvSpPr/>
          <p:nvPr/>
        </p:nvSpPr>
        <p:spPr>
          <a:xfrm>
            <a:off x="3200400" y="100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17T20:45:54Z</dcterms:modified>
  <cp:revision>24</cp:revision>
  <dc:subject/>
  <dc:title>Slide 1</dc:title>
</cp:coreProperties>
</file>