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694863" cy="7466013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slide comments provide talking points and details about exampl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2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LP0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al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 code application: Python script example_f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INLP0 solver: colin: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imple mixed-integer local search method that acts like a pattern search in the continuous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point at (10,10,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te when the solver gets below 1e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blem is given a default name, and solvers use the problem with that default name unless specified otherw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following syntax is used for mixed-integer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(4: 1 0 1 1) i(2: -1 9) r(3: -1.0 2.0 1.33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2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5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6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Leq and Geq elements can be used to bound constrain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7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11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6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explicit transformation from MINLP0 -&gt; UMINLP0 uses a constraint penalty of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8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10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9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9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9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9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PL command syntax (using the –AMPL flag) is used within the AMPL modeling t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–help-solvers-xml is provided to assist the automatic integration of optimizers into GUI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Coliny naming convention for solvers is &lt;package&gt;:&lt;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2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LP0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al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 code application: Python script example_f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INLP0 solver: colin: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imple mixed-integer local search method that acts like a pattern search in the continuous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point at (10,10,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te when the solver gets below 1e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blem is given a default name, and solvers use the problem with that default name unless specified otherw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following syntax is used for mixed-integer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(4: 1 0 1 1) i(2: -1 9) r(3: -1.0 2.0 1.33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324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892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720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324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892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32960" y="514080"/>
            <a:ext cx="82407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324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892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2720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324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9892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2960" y="514080"/>
            <a:ext cx="82407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666200" y="309600"/>
            <a:ext cx="1371600" cy="93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20000"/>
              </a:lnSpc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54200" indent="-182520">
              <a:lnSpc>
                <a:spcPct val="120000"/>
              </a:lnSpc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03480" cy="12193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33320" y="1244520"/>
            <a:ext cx="822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865240" y="6807240"/>
            <a:ext cx="4343400" cy="4968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4720" bIns="547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  <a:defRPr b="0" lang="en-US" sz="1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732960" y="6811560"/>
            <a:ext cx="2019240" cy="498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4720" bIns="547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  <a:defRPr b="0" lang="en-US" sz="1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lide </a:t>
            </a:r>
            <a:fld id="{50898775-84D7-4DE3-BD6C-0F67F29D1E90}" type="slidenum">
              <a:rPr b="0" lang="en-US" sz="1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24240" cy="141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0000" y="6842160"/>
            <a:ext cx="5731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dia is a multiprogram laboratory operated by Sandia Corporation, a Lockheed Martin Company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the United States Department of Energy’s National Nuclear Security Administra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under contract DE-AC04-94AL8500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43000" y="6907320"/>
            <a:ext cx="968400" cy="363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2960" y="1098360"/>
            <a:ext cx="8226360" cy="733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84560" y="1747080"/>
            <a:ext cx="8724960" cy="43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90680" indent="0" algn="ctr">
              <a:spcBef>
                <a:spcPts val="499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810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47168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96056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9605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9605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2960" y="1098720"/>
            <a:ext cx="7008840" cy="1110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 Introduction to th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liny Command Line Interfac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68440" y="3954600"/>
            <a:ext cx="6756480" cy="2490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lliam Hart (wehart@sandia.gov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ohn Siirola (jdsiiro@sandia.gov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andia National Laborator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209000" y="990720"/>
            <a:ext cx="18288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 Simple Example 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lin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olver type="colin:ls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InitialPoin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(3: 10.1 10.1 10.1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InitialPoin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ption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ption name="accuracy"&gt;1e-3&lt;/Optio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Option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ecute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lin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ounds and Labeled Variables 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abel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_1 x_2 x_3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Label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label="x_1" value="9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label="x_2" value="5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RealVar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xed-Integer Variables 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5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IntegerVars num="4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inary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nstraint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Nonlinear num="2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eq value="4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Nonlinea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ulti-objective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lin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O_U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value="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Upper value="2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RealVar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bjectives num="2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2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olver type="colin:rmoo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ption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ption name="max_iters"&gt;20&lt;/Optio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Option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lin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Using System Call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ethod type=“syscal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"/>
          <p:cNvSpPr/>
          <p:nvPr/>
        </p:nvSpPr>
        <p:spPr>
          <a:xfrm>
            <a:off x="5684760" y="4191120"/>
            <a:ext cx="2987640" cy="161856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default method to launch analysis codes is fork (on Unix) and spawn (on MS Windo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n-demand Problem Reformulation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8000"/>
          </a:bodyPr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ed implicit reformul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strained -&gt; Unconstrained with constraint violation penal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ochastic -&gt; Nonstochastic using statistic of r.v.’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NLP -&gt; NLP (fixing integer/binary variable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LP -&gt; MINL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-objective -&gt; Single objective (using weighted average objectiv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ngle objective constrained -&gt; Multi-objective unconstrained with constraint violation 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-objective constrained -&gt; Multi-objective unconstrained with additional constraint violation 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LP0 -&gt; NLP1 (using finite difference gradient approximation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plicit reformulations also available through XML inpu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formulation to Unconstrained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9000"/>
          </a:bodyPr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original"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Nonlinear num="2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eq value="4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Nonlinea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reformulated" type=“UMINLP0”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application="ConstraintPenaltyReformulation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aseProblem id="origina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enalty value="10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formulation to Stochastic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original" type="S_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“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tochasticObjective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3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reformulated" type="NLP0"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application="SamplingReformulation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aseProblem id="origina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amples num="1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bjective stat="mean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formulation to Single-Obj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original" type="MO_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value="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Upper value="2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RealVar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bjectives num="2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2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reformulated" type="NLP0“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plication="WeightedMultiobjReformulation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aseProblem id="origina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333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oliny Command Line Interface (Coliny) provides a single user interface for many COLIN optimizer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tivation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lexible problem/solver specific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mple syntax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 reformul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structure problem represent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xed-integer linear progra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fferentiable proble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-objective proble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mbeddable solver interfa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mple option/value solver paramet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nal solutions archived in a cach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32960" y="228240"/>
            <a:ext cx="8240760" cy="1089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formulation to Unconstrain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ulti-Objective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original" type="MO_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value="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Upper value="2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RealVar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bjectives num="2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Nonlinear num="2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eq value="4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Nonlinea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2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reformulated" type="MO_UNLP0“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plication="UnconstrainedMultiobjReformulation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aseProblem id="origina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Usage Model for Analysis Cod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369880" y="1790640"/>
            <a:ext cx="5029200" cy="2058120"/>
            <a:chOff x="2369880" y="1790640"/>
            <a:chExt cx="5029200" cy="2058120"/>
          </a:xfrm>
        </p:grpSpPr>
        <p:sp>
          <p:nvSpPr>
            <p:cNvPr id="135" name=""/>
            <p:cNvSpPr/>
            <p:nvPr/>
          </p:nvSpPr>
          <p:spPr>
            <a:xfrm>
              <a:off x="2369880" y="2590920"/>
              <a:ext cx="1028520" cy="457560"/>
            </a:xfrm>
            <a:prstGeom prst="flowChartInputOutpu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OL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5" idx="5"/>
              <a:endCxn id="137" idx="1"/>
            </p:cNvCxnSpPr>
            <p:nvPr/>
          </p:nvCxnSpPr>
          <p:spPr>
            <a:xfrm>
              <a:off x="3293280" y="2819880"/>
              <a:ext cx="4482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741480" y="2590920"/>
              <a:ext cx="1028520" cy="457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OL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Execu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70360" y="3390840"/>
              <a:ext cx="1599840" cy="457920"/>
            </a:xfrm>
            <a:prstGeom prst="flowChartInputOutpu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Reque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37" idx="2"/>
              <a:endCxn id="138" idx="2"/>
            </p:cNvCxnSpPr>
            <p:nvPr/>
          </p:nvCxnSpPr>
          <p:spPr>
            <a:xfrm flipH="1" rot="16200000">
              <a:off x="4306320" y="2996640"/>
              <a:ext cx="572040" cy="675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0" name=""/>
            <p:cNvSpPr/>
            <p:nvPr/>
          </p:nvSpPr>
          <p:spPr>
            <a:xfrm>
              <a:off x="6370560" y="2590920"/>
              <a:ext cx="1028520" cy="457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55880" y="1790640"/>
              <a:ext cx="1599840" cy="457560"/>
            </a:xfrm>
            <a:prstGeom prst="flowChartInputOutpu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Respon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1" idx="2"/>
              <a:endCxn id="137" idx="0"/>
            </p:cNvCxnSpPr>
            <p:nvPr/>
          </p:nvCxnSpPr>
          <p:spPr>
            <a:xfrm flipV="1" rot="10800000">
              <a:off x="4255200" y="2018880"/>
              <a:ext cx="560520" cy="571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40" idx="0"/>
              <a:endCxn id="141" idx="5"/>
            </p:cNvCxnSpPr>
            <p:nvPr/>
          </p:nvCxnSpPr>
          <p:spPr>
            <a:xfrm flipV="1" rot="16200000">
              <a:off x="6203520" y="1908720"/>
              <a:ext cx="571320" cy="792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38" idx="5"/>
              <a:endCxn id="140" idx="2"/>
            </p:cNvCxnSpPr>
            <p:nvPr/>
          </p:nvCxnSpPr>
          <p:spPr>
            <a:xfrm flipV="1">
              <a:off x="6207840" y="3047760"/>
              <a:ext cx="677520" cy="572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884480" y="25909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cc99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System Ca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nalysisCode File Syntax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olinReques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eal size="3"&gt; 0.1e-1 0.1 0.1&lt;/Real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eed&gt;100&lt;/See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eques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unctionValue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Reques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ColinReques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olinRespons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unctionValue&gt;13.4&lt;/FunctionValu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ColinRespons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ecute semantic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execute block grammar is determined at runt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ch element is a “command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 commands take an optional “rank=‘#’” attribute that specifies which process should execute the comma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mitting “rank” has command executed on all proces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comman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mandLoo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ch solver registers its id as a comma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b-elements are parsed by the command processor itsel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32960" y="228240"/>
            <a:ext cx="8240760" cy="1089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imple hybrid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olver id=“a”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olver id=“b”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xecut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Execut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32960" y="228240"/>
            <a:ext cx="8240760" cy="1089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mplex hybrid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Solver id=“a”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Solver id=“b”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Solver id=“c”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Execut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a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InitialPoints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(3: 1.0 2.0 3.0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InitialPoints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FinalPoints cache=“a_ans” /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b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InitialPoints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(3: 11.0 12.0 13.0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InitialPoints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FinalPoints cache=“b_ans” /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b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MergeCaches in1=“a_ans”, in2=“b_ans” out=“tmp” /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c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InitialPoints cache=“tmp” /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c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Execut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32960" y="228240"/>
            <a:ext cx="8240760" cy="1089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ypothetical ABO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olver id=“a”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ptions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ption name=“max_iters”, value=“20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Options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olver id=“b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olver id=“c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olver id=“abo”, type=“abo”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gent solver=“a”, problem=“xxx”, initializer=“best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gent solver=“b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gent solver=“c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master rank=“0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ptions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ption name=“ddd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Options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Execute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bo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Execute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utstanding Issu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ment of asynchronous evalu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ment of cached evalu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ngle-objective and Pareto cach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ybrid solvers in XM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arious reformulations are in development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ion of new solver libr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MHlib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++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EG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rror handling in solvers/applic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vailabilit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oliny command is built with the Acro software reposito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software.sandia.gov/Acr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urrent webpage documents Acro 1.0 / Colin 2.0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y and XML functionality are both new features under development for inclusion as part of the upcoming Acro 2.0 / Colin 3.0 release (tentatively December 2008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y Featur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uctured XML syntax for defining problems and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quential specification of multiple problems and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problem reformul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mple option/value parameterization of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ic XML interface for external analysis cod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tensible application response ty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AKOTA vs. Colin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8000"/>
          </a:bodyPr>
          <a:p>
            <a:pPr marL="19296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r … why do we need another optimization interface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AKOT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multi-level paralleli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UQ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surrogate meth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OUU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different domain ty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different problem types and problem transform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tensible support for new analysis code response ty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re flexible support for hybrids (in the future…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mmand Line Syntax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447920"/>
            <a:ext cx="868680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coliny --help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age: coliny [options] &lt;arg1&gt; &lt;arg2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age: coliny &lt;*.nl&gt; -AMP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age: coliny [options] &lt;colin-xml-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is is a COLIN optimizer executable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ons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debug-solver-params   Print solver option values before running it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help-options          Print options for specified solver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help-solvers-xml      Print the list of solvers supported by thi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ecutable to a file using an XML format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s, --help-solvers          Print the list of solvers supported by thi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ecutable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h, --help                  Display usage informatio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repetitions           The number of times that the solver is rerun (t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eck that solver reset() methods work)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use-abort             Force an abort when an error occurs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verbose               Verbose printing during optimization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itional optimizer options can be specified within AMPL or the COLIN XM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isting Coliny Solver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53920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coliny --help-solver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s defined in 'coliny'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ps:APP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 APPS derivative-free optimizer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ps:app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 alias to solver_nam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byla:Cobyl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 Cobyla2 derivative-free optimizer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byla:cobyl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 alias to solver_nam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in:GradientDescent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simple gradient descent local search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in:RandomMO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simple random multi-objective optimizer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in:SimpleMILocalSearch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simple mixed-integer local search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 XML Input Specificatio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centralized Parser / Interpret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ong dependence on factory and registry design patter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rammar may be extended at runt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y is an interpreter for the COLIN XML specific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 a compil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oot element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linInput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re “paragraphs” (each may appear more than onc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roblem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fines an optimization problem (i.e. interface to function evaluator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olver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fines an optimize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Execut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fines the sequence of actions that Coliny should tak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roblem Specificatio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ma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al varia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er varia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inary varia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-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riv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ternal comma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S Method( fork/spawn or syscall 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e Simplest Example 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olinInput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roblem application="AMPL"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Lfile name="problem.nl" 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olver type="colin:ls" 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xecute 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olinInput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04:12:09Z</dcterms:created>
  <dc:creator>Sandia National Laboratories</dc:creator>
  <dc:description/>
  <dc:language>en-US</dc:language>
  <cp:lastModifiedBy>John D. Siirola</cp:lastModifiedBy>
  <dcterms:modified xsi:type="dcterms:W3CDTF">2008-12-04T22:08:49Z</dcterms:modified>
  <cp:revision>21</cp:revision>
  <dc:subject/>
  <dc:title>An Introduction to the COLIN Optimization Interface</dc:title>
</cp:coreProperties>
</file>