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52315"/>
        <c:axId val="86269392"/>
      </c:barChart>
      <c:catAx>
        <c:axId val="49452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69392"/>
        <c:crosses val="autoZero"/>
        <c:auto val="1"/>
        <c:lblAlgn val="ctr"/>
        <c:lblOffset val="100"/>
        <c:noMultiLvlLbl val="0"/>
      </c:catAx>
      <c:valAx>
        <c:axId val="862693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52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C02-A58C-4218-A960-CED356AA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4BD-6006-414E-AC3D-45DAB05A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3ECC-6D84-4B5D-A522-22FC6C47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62BC-DC14-45C8-B14E-20EC5F94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D785-B1A1-48CC-92AA-225D585A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86C-6087-4035-AEE3-BA4A2AFA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DE58-A663-498F-A638-E0957C55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AC5-5D0D-4876-898C-088FB1B4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308-C2EB-424D-B4F5-2EB794D6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C35-D73A-467A-BFE8-AF520F0C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B72B-AEE0-42E5-88B2-5B1C71AE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EAC-6A40-4941-9357-FA517352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96E00-60C5-4143-84C0-ED290A64BA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