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75277"/>
        <c:axId val="79802894"/>
      </c:barChart>
      <c:catAx>
        <c:axId val="17575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02894"/>
        <c:crosses val="autoZero"/>
        <c:auto val="1"/>
        <c:lblAlgn val="ctr"/>
        <c:lblOffset val="100"/>
        <c:noMultiLvlLbl val="0"/>
      </c:catAx>
      <c:valAx>
        <c:axId val="79802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75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D2C3-21E0-46A5-B54B-ACE81092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4CB-4F38-4770-80AA-C0E7F4C1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2DFA-7A07-4733-8260-A640FD8C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1D74-B1B5-4CDD-BF62-42896FB3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EB13-C10E-4DA1-9FF0-823D6A00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F21B-ABF2-4DA2-99B8-DB750776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2C3A-023A-47EC-9FBA-951938BE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FED-56D3-468C-8EFE-97427229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A76-30EE-4C54-B700-0ED24A1C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45B-2AC3-4621-94F2-3E0087E4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4DA-81AF-4CA3-890D-8C50489D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1BB1-3280-45E8-B5E0-1F69FB94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6EA4A-83BF-42A8-975A-07AEAF3437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