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8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48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E18D-4671-4F01-A008-70FE1D06A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4109-660A-4D59-89A2-526993052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6E65-2F5C-4D89-ABD8-3D25D8B96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0C55-A1E7-4926-AB2D-3511A32A6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77A5-4A15-4574-8417-C27F16537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255D-89C0-4B26-86FB-181982D4B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0780-EBB3-4286-9474-4377B3AEF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B2DA-A852-46CA-A143-C21C7FD38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E49B-7E8F-451E-BAF0-B5BAD2832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538B-0777-48A7-B191-198D1061B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84AC-8EB5-4EC9-AB24-2EB7A505D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5B0C-BA3B-40D2-B224-78D43EB8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457200"/>
          </a:xfrm>
          <a:prstGeom prst="rect">
            <a:avLst/>
          </a:prstGeom>
          <a:solidFill>
            <a:srgbClr val="339933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D7A97-ABA3-49A2-AA07-B5C83E22E70F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400440"/>
            <a:ext cx="3962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E7FFE-5FCC-4BE1-9B69-B74EA159CBC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6324480"/>
            <a:ext cx="807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47720" y="290520"/>
            <a:ext cx="43275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oSoft - Paul Obermeier‘s Portable 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544680"/>
            <a:ext cx="697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-76320" bIns="-76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oLogo200_text" descr=""/>
          <p:cNvPicPr/>
          <p:nvPr/>
        </p:nvPicPr>
        <p:blipFill>
          <a:blip r:embed="rId2"/>
          <a:stretch/>
        </p:blipFill>
        <p:spPr>
          <a:xfrm>
            <a:off x="7659720" y="163440"/>
            <a:ext cx="798480" cy="67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logoLarge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1555920" cy="2286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743200" y="2041560"/>
            <a:ext cx="571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aul Oberme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img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743200" y="4495680"/>
            <a:ext cx="5713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hird European Tcl/Tk User Meet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unich, June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51040" y="2652840"/>
            <a:ext cx="58057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obermeier@poSoft.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aul.obermeier@lfk.eads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2815-26A5-4EAE-B819-C443D779102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Cur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2560" y="1652760"/>
            <a:ext cx="777240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Img extension was developed and maintained in major parts by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atest version of Img (1.2.4) was uploaded to SourceForge by A. Kupries in May 200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page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http://sourceforge.net/projects/tkim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maintainers: Jeff Hobbs, Andreas Kupries,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developers: Paul Obermei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upported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Postscript (needs ghostscrip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AB63-E479-4D05-B791-88FD095EB0A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2560" y="1523880"/>
            <a:ext cx="7772400" cy="46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ost of the code for the following planned actions is already implemented in an alpha version available at www.poSoft.de. It will be added to SourceForge in two step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1 (June 2002): Enhancements and bug fixes of existing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support routines for reading image data in small pieces (RL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reading of run-length encoded Windows bitmap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peed improvements and bugfixes for XPM form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PPM format to Img to enable -data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Various bug fix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2 (July 2002): Addition of new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Paintbrush‘s PCX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Plan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162920" y="5105520"/>
            <a:ext cx="129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15200" y="2438280"/>
            <a:ext cx="1219320" cy="3767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mg 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E362-4918-4DF3-A612-F467DCA2060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2560" y="1652760"/>
            <a:ext cx="7772400" cy="38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following actions are taken from my personal wish list. Implementation will need the help of the community. Please feel free to contribute in any for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Near future ac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Remove usage of Tk-internal structures to enable stub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Update versions of external libraries: libpng, libjpeg, libtiff, lib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 existing format handlers for full complia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image formats: Windows icons, PICT, WMF, Photoshop, ?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ssues influencing Img and T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Better transparency suppor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d image manipulation: Scaling, rotation, filter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(see extension poImg at www.poSoft.d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oImg2" descr=""/>
          <p:cNvPicPr/>
          <p:nvPr/>
        </p:nvPicPr>
        <p:blipFill>
          <a:blip r:embed="rId1"/>
          <a:stretch/>
        </p:blipFill>
        <p:spPr>
          <a:xfrm>
            <a:off x="6251400" y="4435560"/>
            <a:ext cx="2359080" cy="171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186A-F361-4DDE-911D-A3ED7372938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poImg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2560" y="152388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k package for selection of image formats and corresponding op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oImgtype2" descr=""/>
          <p:cNvPicPr/>
          <p:nvPr/>
        </p:nvPicPr>
        <p:blipFill>
          <a:blip r:embed="rId1"/>
          <a:stretch/>
        </p:blipFill>
        <p:spPr>
          <a:xfrm>
            <a:off x="6653160" y="2863800"/>
            <a:ext cx="1957320" cy="3308400"/>
          </a:xfrm>
          <a:prstGeom prst="rect">
            <a:avLst/>
          </a:prstGeom>
          <a:ln w="0">
            <a:noFill/>
          </a:ln>
        </p:spPr>
      </p:pic>
      <p:pic>
        <p:nvPicPr>
          <p:cNvPr id="107" name="poImgtype1" descr=""/>
          <p:cNvPicPr/>
          <p:nvPr/>
        </p:nvPicPr>
        <p:blipFill>
          <a:blip r:embed="rId2"/>
          <a:stretch/>
        </p:blipFill>
        <p:spPr>
          <a:xfrm>
            <a:off x="4495680" y="3592440"/>
            <a:ext cx="1962360" cy="2579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00920" y="1969920"/>
            <a:ext cx="502704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vailable func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OpenWin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Open selection wind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Fm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image form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Ex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file exten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Ex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ile exten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Fm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ormat identif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LoadFrom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Load settings from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SaveTo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Save settings to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6C66-F6CD-45A5-9038-769E3470C92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Test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2560" y="2682720"/>
            <a:ext cx="7772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1: Using full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2: Using -from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3: Using -to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4: Using all sizes fr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1x1 till 4x4 pix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oImgtest1" descr=""/>
          <p:cNvPicPr/>
          <p:nvPr/>
        </p:nvPicPr>
        <p:blipFill>
          <a:blip r:embed="rId1"/>
          <a:stretch/>
        </p:blipFill>
        <p:spPr>
          <a:xfrm>
            <a:off x="1209600" y="3857760"/>
            <a:ext cx="2981520" cy="2390760"/>
          </a:xfrm>
          <a:prstGeom prst="rect">
            <a:avLst/>
          </a:prstGeom>
          <a:ln w="0">
            <a:noFill/>
          </a:ln>
        </p:spPr>
      </p:pic>
      <p:pic>
        <p:nvPicPr>
          <p:cNvPr id="112" name="poImgtest2" descr=""/>
          <p:cNvPicPr/>
          <p:nvPr/>
        </p:nvPicPr>
        <p:blipFill>
          <a:blip r:embed="rId2"/>
          <a:stretch/>
        </p:blipFill>
        <p:spPr>
          <a:xfrm>
            <a:off x="5124600" y="3220920"/>
            <a:ext cx="3562200" cy="3027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90400" y="1509840"/>
            <a:ext cx="7864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se tests try to store the content of a canvas window in image files using all file formats and all methods (file, binary and uuencoded string) available in the Img pack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fter writing we try to read the image back into a photo by using the auto-detect mechanism of Img. If that fails, we use the "-format"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51FB-C654-4B8E-B63B-B0BC0414CD8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ummary: List of supported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6280" y="16146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1600" y="1809720"/>
            <a:ext cx="5727960" cy="39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Windows bitma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aintbrush‘s PCX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ostscript (Read-Onl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ist of supported forma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374C-A611-46EF-9BF9-BD068816D09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Happy Tcl‘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logoLarge" descr=""/>
          <p:cNvPicPr/>
          <p:nvPr/>
        </p:nvPicPr>
        <p:blipFill>
          <a:blip r:embed="rId1"/>
          <a:stretch/>
        </p:blipFill>
        <p:spPr>
          <a:xfrm>
            <a:off x="682560" y="1752480"/>
            <a:ext cx="2230560" cy="3276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270600" y="2401920"/>
            <a:ext cx="52128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home: obermeier@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work:  paul.obermeier@lfk.eads.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y homepage:    http://www.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Jan‘s homepage:  http://purl.oclc.org/net/nijtman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g project page: http://sourceforge.net/projects/tki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Goodby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08A0-B03D-4977-997F-364B31025C3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: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8920" y="3124080"/>
            <a:ext cx="30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out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2200" y="4648320"/>
            <a:ext cx="28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in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5200" y="3646440"/>
            <a:ext cx="6708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EADS/LF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poSof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5200" y="5145120"/>
            <a:ext cx="68608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Current, planned and future state of Im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Utilities and test pr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Summary: List of supported forma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1584360"/>
            <a:ext cx="65962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mg is a Tcl extension to support various image file formats for use with the Tk photo imag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esides reading/writing from/to files, it also supports image data in Tcl variables (both in binary and uuencoded form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img" descr=""/>
          <p:cNvPicPr/>
          <p:nvPr/>
        </p:nvPicPr>
        <p:blipFill>
          <a:blip r:embed="rId1"/>
          <a:stretch/>
        </p:blipFill>
        <p:spPr>
          <a:xfrm>
            <a:off x="6324480" y="3124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867280" y="39625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img" descr=""/>
          <p:cNvPicPr/>
          <p:nvPr/>
        </p:nvPicPr>
        <p:blipFill>
          <a:blip r:embed="rId2"/>
          <a:stretch/>
        </p:blipFill>
        <p:spPr>
          <a:xfrm>
            <a:off x="6324480" y="47242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86600" y="55627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Conte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9514-B182-494F-9E5B-957EB415DF7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at EADS/LF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600200"/>
            <a:ext cx="624852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he system simulation department of EADS/LFK uses Tcl/Tk and Img for pre- and postprocessing of complex simul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DS (Mathematical Digital Simulation): Simulate all relevant components of a missile and it‘s environment in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ain design issues: Flexibility and portability (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long project duration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EADS%20logo" descr=""/>
          <p:cNvPicPr/>
          <p:nvPr/>
        </p:nvPicPr>
        <p:blipFill>
          <a:blip r:embed="rId1"/>
          <a:stretch/>
        </p:blipFill>
        <p:spPr>
          <a:xfrm>
            <a:off x="7086600" y="1914480"/>
            <a:ext cx="1276200" cy="9050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62120" y="3809880"/>
            <a:ext cx="1679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928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onfiguration 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re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08200" y="3598920"/>
            <a:ext cx="20574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Batch process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6112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Visualization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ost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65" idx="3"/>
            <a:endCxn id="66" idx="1"/>
          </p:cNvCxnSpPr>
          <p:nvPr/>
        </p:nvCxnSpPr>
        <p:spPr>
          <a:xfrm>
            <a:off x="2795400" y="3941280"/>
            <a:ext cx="712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66" idx="3"/>
            <a:endCxn id="67" idx="1"/>
          </p:cNvCxnSpPr>
          <p:nvPr/>
        </p:nvCxnSpPr>
        <p:spPr>
          <a:xfrm>
            <a:off x="5565240" y="3941280"/>
            <a:ext cx="677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719280" y="4497480"/>
            <a:ext cx="2057400" cy="163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safe editing of configuration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configuration and execution of physical models (Example 1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8200" y="4497480"/>
            <a:ext cx="205740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ure batch programs written in C, C++ or Ada reading input files and generating output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61120" y="4497480"/>
            <a:ext cx="205740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/Img based GUI‘s for visualization of rendered image sequences (Example 2) and postprocessing of generated simulation data (Example 3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76FC-9F60-4212-A3AD-DD602AABD37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1: GUI‘s for physical mod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468440"/>
            <a:ext cx="79246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eft: Graphical frontend for MODTRAN, an atmospheric radiative transfer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ight: Graphical frontend for Thermos, a LFK developed thermal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ThermosMain" descr=""/>
          <p:cNvPicPr/>
          <p:nvPr/>
        </p:nvPicPr>
        <p:blipFill>
          <a:blip r:embed="rId1"/>
          <a:stretch/>
        </p:blipFill>
        <p:spPr>
          <a:xfrm>
            <a:off x="3886200" y="3084480"/>
            <a:ext cx="4724280" cy="3164040"/>
          </a:xfrm>
          <a:prstGeom prst="rect">
            <a:avLst/>
          </a:prstGeom>
          <a:ln w="0">
            <a:noFill/>
          </a:ln>
        </p:spPr>
      </p:pic>
      <p:pic>
        <p:nvPicPr>
          <p:cNvPr id="76" name="modgui" descr=""/>
          <p:cNvPicPr/>
          <p:nvPr/>
        </p:nvPicPr>
        <p:blipFill>
          <a:blip r:embed="rId2"/>
          <a:stretch/>
        </p:blipFill>
        <p:spPr>
          <a:xfrm>
            <a:off x="685800" y="2260440"/>
            <a:ext cx="5486400" cy="337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954B-8E1D-46E3-8FC5-7C3C13CC73F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2: Osm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2760" y="1436760"/>
            <a:ext cx="72385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eplay of multiple infrared image sequences overlayed with vector graphic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read from files in Sun Raster forma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osmvis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486400" cy="398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9B8C-7BBB-4566-900F-1F96D5CDC63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3: MdsVie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8600" y="1360440"/>
            <a:ext cx="69868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2D and 3D visualization of simulation results with Tk/Img and Perform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rid of height values (DTED format) interpreted as a photo imag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mdsview" descr=""/>
          <p:cNvPicPr/>
          <p:nvPr/>
        </p:nvPicPr>
        <p:blipFill>
          <a:blip r:embed="rId1"/>
          <a:stretch/>
        </p:blipFill>
        <p:spPr>
          <a:xfrm>
            <a:off x="762120" y="2065320"/>
            <a:ext cx="4876560" cy="4183200"/>
          </a:xfrm>
          <a:prstGeom prst="rect">
            <a:avLst/>
          </a:prstGeom>
          <a:ln w="0">
            <a:noFill/>
          </a:ln>
        </p:spPr>
      </p:pic>
      <p:pic>
        <p:nvPicPr>
          <p:cNvPr id="83" name="mdshelp" descr=""/>
          <p:cNvPicPr/>
          <p:nvPr/>
        </p:nvPicPr>
        <p:blipFill>
          <a:blip r:embed="rId2"/>
          <a:stretch/>
        </p:blipFill>
        <p:spPr>
          <a:xfrm>
            <a:off x="5867280" y="3200400"/>
            <a:ext cx="2362320" cy="13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F3B8-09B2-46B6-8C58-611911418E7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from poSo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6280" y="1828800"/>
            <a:ext cx="77086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ww.poSoft.de is my private homepage: Paul Obermeier‘s Portable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ome of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Tool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, a set of portable Tcl/Tk applica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Diff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  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recursively compare the contents of two director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Bitmap: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Portable tool to view and manipulate X-Window bitmaps.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diff: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compare two images (Example 4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view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view and manipulate images (Example 5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F2B8-CE68-4A46-9296-195D8C1F793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4: poImgdi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2560" y="1562040"/>
            <a:ext cx="54133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comparison tool.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placed side by side for visual comparis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eneration of difference images and hist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oImgdiff1" descr=""/>
          <p:cNvPicPr/>
          <p:nvPr/>
        </p:nvPicPr>
        <p:blipFill>
          <a:blip r:embed="rId1"/>
          <a:stretch/>
        </p:blipFill>
        <p:spPr>
          <a:xfrm>
            <a:off x="682560" y="2743200"/>
            <a:ext cx="4956120" cy="3435480"/>
          </a:xfrm>
          <a:prstGeom prst="rect">
            <a:avLst/>
          </a:prstGeom>
          <a:ln w="0">
            <a:noFill/>
          </a:ln>
        </p:spPr>
      </p:pic>
      <p:pic>
        <p:nvPicPr>
          <p:cNvPr id="89" name="poImgdiff2" descr=""/>
          <p:cNvPicPr/>
          <p:nvPr/>
        </p:nvPicPr>
        <p:blipFill>
          <a:blip r:embed="rId2"/>
          <a:stretch/>
        </p:blipFill>
        <p:spPr>
          <a:xfrm>
            <a:off x="6324480" y="3962520"/>
            <a:ext cx="2052720" cy="2238120"/>
          </a:xfrm>
          <a:prstGeom prst="rect">
            <a:avLst/>
          </a:prstGeom>
          <a:ln w="0">
            <a:noFill/>
          </a:ln>
        </p:spPr>
      </p:pic>
      <p:pic>
        <p:nvPicPr>
          <p:cNvPr id="90" name="poImgdiff3" descr=""/>
          <p:cNvPicPr/>
          <p:nvPr/>
        </p:nvPicPr>
        <p:blipFill>
          <a:blip r:embed="rId3"/>
          <a:stretch/>
        </p:blipFill>
        <p:spPr>
          <a:xfrm>
            <a:off x="6351480" y="1447920"/>
            <a:ext cx="2030400" cy="249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6E57-9096-497F-AF6C-39E49F32B77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5: poImg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2560" y="1639800"/>
            <a:ext cx="35085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view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ncludes image browser and batch format convers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oImgview1" descr=""/>
          <p:cNvPicPr/>
          <p:nvPr/>
        </p:nvPicPr>
        <p:blipFill>
          <a:blip r:embed="rId1"/>
          <a:stretch/>
        </p:blipFill>
        <p:spPr>
          <a:xfrm>
            <a:off x="6051600" y="1576440"/>
            <a:ext cx="2403360" cy="4473360"/>
          </a:xfrm>
          <a:prstGeom prst="rect">
            <a:avLst/>
          </a:prstGeom>
          <a:ln w="0">
            <a:noFill/>
          </a:ln>
        </p:spPr>
      </p:pic>
      <p:pic>
        <p:nvPicPr>
          <p:cNvPr id="94" name="poImgview4" descr=""/>
          <p:cNvPicPr/>
          <p:nvPr/>
        </p:nvPicPr>
        <p:blipFill>
          <a:blip r:embed="rId2"/>
          <a:stretch/>
        </p:blipFill>
        <p:spPr>
          <a:xfrm>
            <a:off x="682560" y="2973240"/>
            <a:ext cx="5108760" cy="304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20F6-F1B7-4DBE-B361-67BD9B60992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0T13:38:28Z</dcterms:created>
  <dc:creator>LFK - Installation</dc:creator>
  <dc:description/>
  <dc:language>en-US</dc:language>
  <cp:lastModifiedBy>Who cares</cp:lastModifiedBy>
  <cp:lastPrinted>2002-06-09T11:48:02Z</cp:lastPrinted>
  <dcterms:modified xsi:type="dcterms:W3CDTF">2002-06-09T20:27:43Z</dcterms:modified>
  <cp:revision>147</cp:revision>
  <dc:subject/>
  <dc:title>Methoden und Tools der IR-Bildgenerierung - Gliederung</dc:title>
</cp:coreProperties>
</file>