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A54C-BF4B-43E4-9BD0-06729EF6F93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3851-FF6B-49EA-955F-D9593F3266E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ED1D-A0D3-4242-906D-CAB384C9D11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A710-8BFF-4BA0-8996-9FCE6907C09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732C-69F0-4720-89B6-A3C365C5B0D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FD5C-EA06-43E0-B40A-976CC12D698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242C-2D30-471B-AADB-98BC9A6B32D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C83E-0535-4D71-A0AB-A6E8AB238FA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39AB-01D8-4A73-B369-82642D2CC9F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737A-8AE4-4F01-B181-AD2F61DCCC7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3281-0315-4E69-94B5-0CA1EB14A21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911C-CAED-41B5-A861-CB8211F48ED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11ED-DC01-42D7-8D69-7DADA4F5D43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1172-15D6-4AE6-A4D7-74F8D0073AE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4D2F-E084-4C4A-B907-6A3D11DD8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421F-2133-431B-B0D2-AFEB33D9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F134-31F4-42CC-ACF9-D13FF1C2B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A4EF-FE74-4E6D-A67B-BEE5F1757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9385-5516-42E2-9287-BCEA6E10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2B34-DFF1-4CA5-92A9-AC1D808E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9E21-CF3A-4835-AC1E-777EC351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6AAA-BACF-4DE8-9FA0-2FAA377D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7B2A-2B67-479E-BD7F-1F11664E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58DE-EA8C-47B0-8C45-29DDD054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ECE5-FC03-4B7A-BAF8-76294B7C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8646-2080-4211-90C4-BF2DCA43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0C71-FB24-4230-AB52-5B2E80D37BDC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9:54Z</dcterms:modified>
  <cp:revision>19</cp:revision>
  <dc:subject/>
  <dc:title>Tcl/Tk Mature but Evolving Dynamic Language</dc:title>
</cp:coreProperties>
</file>