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27714-A643-4773-918D-D038C39AE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A99E0-02BB-4396-B537-2A64D0A2E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AFC5A-1831-48FD-B1BF-35CBCCD7D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F9E62-2FC0-47DD-98BB-27E568CCA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0B1CA-F812-4F25-9C76-502E8878B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E9471-5E6F-41A7-8A51-984ABFB59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40DB5-D6DA-4FD4-8384-200B8C379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21B92-F0BB-418C-B242-EC4341E06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18A66-593F-4C58-9601-837057C36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B834D-ABD9-4C2A-B3BA-315C3CFED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6B45A-F456-4A7D-91CD-2C21E1491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AA383-E9E7-4A06-8371-A91917FEF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8702C-3650-4253-9DED-DD9355980B4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://eagle.to/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2590560"/>
            <a:ext cx="7086600" cy="88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Eagle: Tcl Implementation in C#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14040" y="3581280"/>
            <a:ext cx="7086600" cy="117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5th Annual Tcl Confere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oe Mistachk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Eagl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gle is an open-source implementation of Tcl written in C# for the Microsoft CL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ed to embed in CLR based applicatio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pports approximately 90% of the Tcl 8.4 core command se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Notable Featur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egrates with CLR class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egrates with Tcl/Tk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egrates with native librari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pports interactive debugg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pports script cancellati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pports read-only variables, commands, et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pports interpreter-wide variable trac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pports closur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pports Unicode (UCS-2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missing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Tk command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argument expansion syntax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namespace support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binary, fblocked, fcopy, fileevent, format, glob, history, memory, scan, or trace command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registry or DDE command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asynchronous input/output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server socket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slave interpreters, no hidden commands, no aliases, and no Safe Tcl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http, msgcat, or tcltest packag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r the open command, command pipelines and serial ports are not supporte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r the exec command, Unix-style input/output redirection and command pipelines are not supporte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monstr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ere is it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2cddc"/>
                </a:solidFill>
                <a:uFillTx/>
                <a:latin typeface="Times New Roman"/>
                <a:hlinkClick r:id="rId2"/>
              </a:rPr>
              <a:t>http://eagle.to/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Questions and Answer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1T20:43:22Z</dcterms:created>
  <dc:creator>Joe Mistachkin</dc:creator>
  <dc:description/>
  <dc:language>en-US</dc:language>
  <cp:lastModifiedBy>Joe Mistachkin</cp:lastModifiedBy>
  <dcterms:modified xsi:type="dcterms:W3CDTF">2008-10-22T06:56:22Z</dcterms:modified>
  <cp:revision>140</cp:revision>
  <dc:subject>Eagle</dc:subject>
  <dc:title>Eagle: Tcl Implementation in C#</dc:title>
</cp:coreProperties>
</file>