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7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0"/>
            <a:ext cx="6856560" cy="9294840"/>
          </a:xfrm>
          <a:custGeom>
            <a:avLst/>
            <a:gdLst>
              <a:gd name="textAreaLeft" fmla="*/ 360 w 6856560"/>
              <a:gd name="textAreaRight" fmla="*/ 6856200 w 685656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81">
                <a:moveTo>
                  <a:pt x="5" y="0"/>
                </a:moveTo>
                <a:arcTo wR="5" hR="5" stAng="16200000" swAng="-5400000"/>
                <a:lnTo>
                  <a:pt x="0" y="29276"/>
                </a:lnTo>
                <a:arcTo wR="5" hR="5" stAng="10800000" swAng="-5400000"/>
                <a:lnTo>
                  <a:pt x="21595" y="292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0"/>
            <a:ext cx="6854760" cy="9293400"/>
          </a:xfrm>
          <a:custGeom>
            <a:avLst/>
            <a:gdLst>
              <a:gd name="textAreaLeft" fmla="*/ 360 w 6854760"/>
              <a:gd name="textAreaRight" fmla="*/ 6854400 w 6854760"/>
              <a:gd name="textAreaTop" fmla="*/ 360 h 9293400"/>
              <a:gd name="textAreaBottom" fmla="*/ 9293040 h 9293400"/>
            </a:gdLst>
            <a:ahLst/>
            <a:rect l="textAreaLeft" t="textAreaTop" r="textAreaRight" b="textAreaBottom"/>
            <a:pathLst>
              <a:path w="21600" h="29284">
                <a:moveTo>
                  <a:pt x="5" y="0"/>
                </a:moveTo>
                <a:arcTo wR="5" hR="5" stAng="16200000" swAng="-5400000"/>
                <a:lnTo>
                  <a:pt x="0" y="29279"/>
                </a:lnTo>
                <a:arcTo wR="5" hR="5" stAng="10800000" swAng="-5400000"/>
                <a:lnTo>
                  <a:pt x="21595" y="2928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103400" y="696960"/>
            <a:ext cx="4647960" cy="348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1480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ldImg"/>
          </p:nvPr>
        </p:nvSpPr>
        <p:spPr>
          <a:xfrm>
            <a:off x="-360" y="-8703000"/>
            <a:ext cx="360" cy="1881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400" spc="-1" strike="noStrike">
                <a:solidFill>
                  <a:srgbClr val="0033cc"/>
                </a:solidFill>
                <a:latin typeface="Arial"/>
              </a:rPr>
              <a:t>Click to move the slide</a:t>
            </a: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1106640" y="696960"/>
            <a:ext cx="464472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body"/>
          </p:nvPr>
        </p:nvSpPr>
        <p:spPr>
          <a:xfrm>
            <a:off x="914040" y="4411440"/>
            <a:ext cx="5016600" cy="419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-12541320" y="-8702640"/>
            <a:ext cx="25082640" cy="188118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1480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sert tree custom widget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-12541320" y="-8702640"/>
            <a:ext cx="25082640" cy="188118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1480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1106640" y="696960"/>
            <a:ext cx="464472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body"/>
          </p:nvPr>
        </p:nvSpPr>
        <p:spPr>
          <a:xfrm>
            <a:off x="914040" y="4411440"/>
            <a:ext cx="5016600" cy="419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1104840" y="696960"/>
            <a:ext cx="464508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body"/>
          </p:nvPr>
        </p:nvSpPr>
        <p:spPr>
          <a:xfrm>
            <a:off x="914040" y="4416120"/>
            <a:ext cx="5016600" cy="41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79472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71400" y="4703400"/>
            <a:ext cx="779472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714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6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06960" y="190656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2160" y="190656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71400" y="470340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06960" y="470340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2160" y="470340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71400" y="1906560"/>
            <a:ext cx="779472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88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79472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71400" y="569520"/>
            <a:ext cx="77947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88000"/>
              </a:lnSpc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714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71400" y="1906560"/>
            <a:ext cx="779472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88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56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71400" y="4703400"/>
            <a:ext cx="779472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79472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71400" y="4703400"/>
            <a:ext cx="779472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714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56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06960" y="190656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2160" y="190656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71400" y="470340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06960" y="470340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2160" y="470340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71400" y="1906560"/>
            <a:ext cx="779472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88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79472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79472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71400" y="569520"/>
            <a:ext cx="77947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88000"/>
              </a:lnSpc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714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656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71400" y="4703400"/>
            <a:ext cx="779472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79472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71400" y="4703400"/>
            <a:ext cx="779472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714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656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306960" y="190656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42160" y="190656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71400" y="470340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306960" y="470340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42160" y="470340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71400" y="569520"/>
            <a:ext cx="77947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88000"/>
              </a:lnSpc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714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6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71400" y="4703400"/>
            <a:ext cx="779472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4680" y="6078600"/>
            <a:ext cx="9131400" cy="77616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165240" y="6400800"/>
            <a:ext cx="51019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Times New Roman"/>
              </a:rPr>
              <a:t>Tcl Conference 2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3236760" y="6253200"/>
            <a:ext cx="41450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A9CF5148-9D50-4288-8BAD-69E77DBF21B5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400" spc="-1" strike="noStrike">
                <a:solidFill>
                  <a:srgbClr val="0033cc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6840" y="1143000"/>
            <a:ext cx="7754760" cy="544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1000"/>
          </a:bodyPr>
          <a:p>
            <a:pPr marL="263520" indent="-26352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587520" indent="-21708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80000"/>
              <a:buFont typeface="StarBats" charset="2"/>
              <a:buChar char="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925560" indent="-18504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6000" indent="-18504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65000"/>
              <a:buFont typeface="StarBats" charset="2"/>
              <a:buChar char="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4" marL="1666440" indent="-18504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5" marL="1666440" indent="-185040">
              <a:lnSpc>
                <a:spcPct val="188000"/>
              </a:lnSpc>
              <a:spcBef>
                <a:spcPts val="689"/>
              </a:spcBef>
              <a:buClr>
                <a:srgbClr val="000000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6" marL="1666440" indent="-185040">
              <a:lnSpc>
                <a:spcPct val="188000"/>
              </a:lnSpc>
              <a:spcBef>
                <a:spcPts val="689"/>
              </a:spcBef>
              <a:buClr>
                <a:srgbClr val="000000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400" spc="-1" strike="noStrike">
                <a:solidFill>
                  <a:srgbClr val="0033cc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71400" y="1906560"/>
            <a:ext cx="779472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marL="263520" indent="-26352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587520" indent="-21708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80000"/>
              <a:buFont typeface="StarBats" charset="2"/>
              <a:buChar char="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925560" indent="-18504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6000" indent="-18504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65000"/>
              <a:buFont typeface="StarBats" charset="2"/>
              <a:buChar char="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4" marL="1666440" indent="-18504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5" marL="1666440" indent="-185040">
              <a:lnSpc>
                <a:spcPct val="188000"/>
              </a:lnSpc>
              <a:spcBef>
                <a:spcPts val="689"/>
              </a:spcBef>
              <a:buClr>
                <a:srgbClr val="000000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6" marL="1666440" indent="-185040">
              <a:lnSpc>
                <a:spcPct val="188000"/>
              </a:lnSpc>
              <a:spcBef>
                <a:spcPts val="689"/>
              </a:spcBef>
              <a:buClr>
                <a:srgbClr val="000000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1520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15200" cy="55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53080" indent="-253080">
              <a:lnSpc>
                <a:spcPct val="18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60880" indent="-208800">
              <a:lnSpc>
                <a:spcPct val="18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79840" indent="-175680">
              <a:lnSpc>
                <a:spcPct val="18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31920" indent="-175680">
              <a:lnSpc>
                <a:spcPct val="18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84000" indent="-175680">
              <a:lnSpc>
                <a:spcPct val="18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584000" indent="-175680">
              <a:lnSpc>
                <a:spcPct val="18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584000" indent="-175680">
              <a:lnSpc>
                <a:spcPct val="18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988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IN" sz="3200" spc="-1" strike="noStrike">
                <a:solidFill>
                  <a:srgbClr val="ffffff"/>
                </a:solidFill>
                <a:latin typeface="Arial Black"/>
              </a:rPr>
              <a:t>Tcl/Tk guidelines for improved automated regressions - a case-study</a:t>
            </a: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31840" y="4335480"/>
            <a:ext cx="3654360" cy="24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55000"/>
              </a:lnSpc>
              <a:spcBef>
                <a:spcPts val="9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9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Black"/>
              </a:rPr>
              <a:t>Saurabh Khait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9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Black"/>
              </a:rPr>
              <a:t>Madhur Bhat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9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Black"/>
              </a:rPr>
              <a:t>Tushar Gup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5000"/>
              </a:lnSpc>
              <a:spcBef>
                <a:spcPts val="9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7920" y="2057400"/>
            <a:ext cx="6502320" cy="6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IN" sz="2200" spc="-1" strike="noStrike">
                <a:solidFill>
                  <a:srgbClr val="ffffff"/>
                </a:solidFill>
                <a:latin typeface="Times New Roman"/>
              </a:rPr>
              <a:t>17'th Annual Tcl/Tk Conference (Tcl'2010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IN" sz="2200" spc="-1" strike="noStrike">
                <a:solidFill>
                  <a:srgbClr val="ffffff"/>
                </a:solidFill>
                <a:latin typeface="Times New Roman"/>
              </a:rPr>
              <a:t>October 11 - October 15, 2010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218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0033cc"/>
                </a:solidFill>
                <a:latin typeface="Arial"/>
              </a:rPr>
              <a:t>Verification Points</a:t>
            </a:r>
            <a:endParaRPr b="1" lang="en-US" sz="4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51920" y="2971440"/>
            <a:ext cx="861084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25400" indent="0">
              <a:lnSpc>
                <a:spcPct val="5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0">
              <a:lnSpc>
                <a:spcPct val="5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Times New Roman"/>
              </a:rPr>
              <a:t># Verification Point 'newfile'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0">
              <a:lnSpc>
                <a:spcPct val="5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0">
              <a:lnSpc>
                <a:spcPct val="5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Times New Roman"/>
              </a:rPr>
              <a:t>test </a:t>
            </a:r>
            <a:r>
              <a:rPr b="1" i="1" lang="en-GB" sz="1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compare</a:t>
            </a:r>
            <a:r>
              <a:rPr b="1" i="1" lang="en-GB" sz="1800" spc="-1" strike="noStrike">
                <a:solidFill>
                  <a:srgbClr val="000000"/>
                </a:solidFill>
                <a:latin typeface="Times New Roman"/>
              </a:rPr>
              <a:t> [property get  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0">
              <a:lnSpc>
                <a:spcPct val="5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Times New Roman"/>
              </a:rPr>
              <a:t>[findObject ":vsim.dockbar.tbf0.standard.tb.button_0"] state] "normal"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0">
              <a:lnSpc>
                <a:spcPct val="5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0">
              <a:lnSpc>
                <a:spcPct val="5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Times New Roman"/>
              </a:rPr>
              <a:t>test compare [property get [findObject ":vsim.dockbar.tbf0.standard.tb.button_0"] image] "__new_icon"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1319040"/>
            <a:ext cx="9144000" cy="15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0000"/>
              </a:lnSpc>
              <a:spcBef>
                <a:spcPts val="601"/>
              </a:spcBef>
              <a:spcAft>
                <a:spcPts val="201"/>
              </a:spcAft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IN" sz="2400" spc="-1" strike="noStrike">
                <a:solidFill>
                  <a:srgbClr val="000000"/>
                </a:solidFill>
                <a:latin typeface="Times New Roman"/>
              </a:rPr>
              <a:t>Checks Inserted in the code to verify the state of the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spcBef>
                <a:spcPts val="601"/>
              </a:spcBef>
              <a:spcAft>
                <a:spcPts val="201"/>
              </a:spcAft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IN" sz="2400" spc="-1" strike="noStrike">
                <a:solidFill>
                  <a:srgbClr val="000000"/>
                </a:solidFill>
                <a:latin typeface="Times New Roman"/>
              </a:rPr>
              <a:t>test compare [property get $widget $prop_name] $expected_value</a:t>
            </a:r>
            <a:r>
              <a:rPr b="0" lang="en-IN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spcBef>
                <a:spcPts val="601"/>
              </a:spcBef>
              <a:spcAft>
                <a:spcPts val="201"/>
              </a:spcAft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4724280"/>
            <a:ext cx="3504960" cy="76212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hecking the state and the imag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of the button widget using compare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324480" y="3124080"/>
            <a:ext cx="1981440" cy="45720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Name of the V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3352320" y="3352680"/>
            <a:ext cx="297180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1371240" y="51055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1371600" y="41148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1752480" y="46483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200"/>
                            </p:stCondLst>
                            <p:childTnLst>
                              <p:par>
                                <p:cTn id="242" nodeType="afterEffect" fill="hold" presetClass="entr" presetID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1200"/>
                            </p:stCondLst>
                            <p:childTnLst>
                              <p:par>
                                <p:cTn id="250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380880" y="4114800"/>
            <a:ext cx="84582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5000"/>
          </a:bodyPr>
          <a:p>
            <a:pPr marL="308880" indent="-30888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itForObjectItem ":vsim.#mBar" "File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880" indent="-30888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voke activateItem ":vsim.#mBar" "File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880" indent="-30888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880" indent="-30888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itForObjectItem  ":vsim.#mBar.#mBar#file" "New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880" indent="-30888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voke activateItem ":vsim.#mBar.#mBar#file" "New"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880" indent="-30888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880" indent="-30888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itForObjectItem ":vsim.#mBar.#mBar#file.#mBar#file#new" "Project...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880" indent="-30888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voke activateItem ":vsim.#mBar.#mBar#file.#mBar#file#new" "Project...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98520" y="380880"/>
            <a:ext cx="87454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85000"/>
              </a:lnSpc>
              <a:spcAft>
                <a:spcPts val="187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3333cc"/>
                </a:solidFill>
                <a:latin typeface="Arial"/>
              </a:rPr>
              <a:t>Synchronization points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1295280"/>
            <a:ext cx="8991720" cy="28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IN" sz="2400" spc="-1" strike="noStrike">
                <a:solidFill>
                  <a:srgbClr val="000000"/>
                </a:solidFill>
                <a:latin typeface="Times New Roman"/>
              </a:rPr>
              <a:t>What is S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IN" sz="2400" spc="-1" strike="noStrike">
                <a:solidFill>
                  <a:srgbClr val="000000"/>
                </a:solidFill>
                <a:latin typeface="Times New Roman"/>
              </a:rPr>
              <a:t>Types of Synchroniz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Font typeface="Wingdings" charset="2"/>
              <a:buChar char="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ime Synchroniz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Font typeface="Wingdings" charset="2"/>
              <a:buChar char="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bject Synchron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Font typeface="Wingdings" charset="2"/>
              <a:buChar char="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 Synchron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IN" sz="2400" spc="-1" strike="noStrike">
                <a:solidFill>
                  <a:srgbClr val="000000"/>
                </a:solidFill>
                <a:latin typeface="Times New Roman"/>
              </a:rPr>
              <a:t>waitForObjectItem $objectname  $item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5880" y="4495680"/>
            <a:ext cx="3048120" cy="76212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Synchronization Points inser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before every clic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447920" y="47242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981080" y="47242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1447560" y="4724280"/>
            <a:ext cx="464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447920" y="419076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300"/>
                            </p:stCondLst>
                            <p:childTnLst>
                              <p:par>
                                <p:cTn id="2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300"/>
                            </p:stCondLst>
                            <p:childTnLst>
                              <p:par>
                                <p:cTn id="2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0033cc"/>
                </a:solidFill>
                <a:latin typeface="Arial"/>
              </a:rPr>
              <a:t>Use of global procedures</a:t>
            </a:r>
            <a:endParaRPr b="1" lang="en-US" sz="4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-76680" y="1066680"/>
            <a:ext cx="861084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proc main {}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snooze 10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#sourcing all global scripts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source [findFile scripts "clean.tcl"]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source [findFile scripts "analyze.tcl"]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source [findFile scripts "close.tcl"]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# global procedure – clean_all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clean_all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# global procedure - analyz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analyz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#global procedure – close_proj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close_proj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`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562720" y="2743200"/>
            <a:ext cx="2590560" cy="60948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Sourcing global scrip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410080" y="4191120"/>
            <a:ext cx="2590920" cy="83808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all to different procedu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H="1" flipV="1">
            <a:off x="1371600" y="4191120"/>
            <a:ext cx="4038480" cy="30456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1142640" y="4724280"/>
            <a:ext cx="4267080" cy="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1447920" y="4952880"/>
            <a:ext cx="3962160" cy="38124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886200" y="2514600"/>
            <a:ext cx="228600" cy="990720"/>
          </a:xfrm>
          <a:custGeom>
            <a:avLst/>
            <a:gdLst>
              <a:gd name="textAreaLeft" fmla="*/ 0 w 228600"/>
              <a:gd name="textAreaRight" fmla="*/ 82440 w 22860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58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4114800" y="3048120"/>
            <a:ext cx="1447920" cy="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300"/>
                            </p:stCondLst>
                            <p:childTnLst>
                              <p:par>
                                <p:cTn id="328" nodeType="afterEffect" fill="hold" presetClass="entr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700"/>
                            </p:stCondLst>
                            <p:childTnLst>
                              <p:par>
                                <p:cTn id="331" nodeType="afterEffect" fill="hold" presetClass="entr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0033cc"/>
                </a:solidFill>
                <a:latin typeface="Arial"/>
              </a:rPr>
              <a:t>Limitations and Workarounds</a:t>
            </a:r>
            <a:endParaRPr b="1" lang="en-US" sz="4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-360" y="1142640"/>
            <a:ext cx="77547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5440" indent="-32544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rag and Dro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Use of black box GUI testing tools 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stom widget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est using conventional analog tools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upport for custom widgets from automation tool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vas widget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creenshot Verification Points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extual dump of graphical display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0033cc"/>
                </a:solidFill>
                <a:latin typeface="Arial"/>
              </a:rPr>
              <a:t>Screenshot Verification Points</a:t>
            </a:r>
            <a:endParaRPr b="1" lang="en-US" sz="4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838080" y="1371600"/>
            <a:ext cx="7467840" cy="451476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2057400" y="3124080"/>
            <a:ext cx="914400" cy="3049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733920" y="2590920"/>
            <a:ext cx="914400" cy="3045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029200" y="3200400"/>
            <a:ext cx="762120" cy="228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57200" y="4724280"/>
            <a:ext cx="1828800" cy="53352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Canvas widge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Hierarchical na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038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33520" y="2057400"/>
            <a:ext cx="1523880" cy="53352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creenshot ma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486400" y="23623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191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057400" y="23623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590920" y="23623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1800"/>
                            </p:stCondLst>
                            <p:childTnLst>
                              <p:par>
                                <p:cTn id="376" nodeType="afterEffect" fill="hold" presetClass="entr" presetID="22" presetSubtype="8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0033cc"/>
                </a:solidFill>
                <a:latin typeface="Arial"/>
              </a:rPr>
              <a:t>Results</a:t>
            </a:r>
            <a:endParaRPr b="1" lang="en-US" sz="4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77547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5440" indent="-32544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omated and stable GUI testing regression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duced testing tim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roved test coverag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product Quality – Customer reported bugs reduced significantly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1447920" y="4191120"/>
            <a:ext cx="2238120" cy="197172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4952880" y="4191120"/>
            <a:ext cx="2210040" cy="205740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3657600" y="533412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afterEffect" fill="hold" presetClass="entr" presetID="12" presetSubtype="4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5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1000"/>
                            </p:stCondLst>
                            <p:childTnLst>
                              <p:par>
                                <p:cTn id="417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9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55520" y="2514240"/>
            <a:ext cx="8988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Thank You</a:t>
            </a:r>
            <a:endParaRPr b="1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0" y="1676520"/>
            <a:ext cx="8912160" cy="166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55000"/>
              </a:lnSpc>
              <a:spcBef>
                <a:spcPts val="9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spcBef>
                <a:spcPts val="9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5000"/>
              </a:lnSpc>
              <a:spcBef>
                <a:spcPts val="9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240" y="101520"/>
            <a:ext cx="8759880" cy="101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400" spc="-1" strike="noStrike">
                <a:solidFill>
                  <a:srgbClr val="0033cc"/>
                </a:solidFill>
                <a:latin typeface="Arial"/>
              </a:rPr>
              <a:t>Agenda</a:t>
            </a: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53452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5440" indent="-325440">
              <a:lnSpc>
                <a:spcPct val="10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Need for automated GUI regressions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0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Automated GUI testing tools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0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Guidelines for developers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0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Testing strategies for QA engineers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0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Limitations and workarounds 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0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Results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98160" y="-36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800" spc="-1" strike="noStrike">
                <a:solidFill>
                  <a:srgbClr val="0033cc"/>
                </a:solidFill>
                <a:latin typeface="Arial"/>
              </a:rPr>
              <a:t>Need for Automated GUI regressions</a:t>
            </a:r>
            <a:endParaRPr b="1" lang="en-US" sz="3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77547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owing complexity of GUI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cessive permutation and combinations of sequence of steps to test manually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ule out “human error” in testing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duce time-to-marke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iminates repeated testing effort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0033cc"/>
                </a:solidFill>
                <a:latin typeface="Arial"/>
              </a:rPr>
              <a:t>Automated GUI testing tools</a:t>
            </a:r>
            <a:endParaRPr b="1" lang="en-US" sz="4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77547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5440" indent="-325440">
              <a:lnSpc>
                <a:spcPct val="120000"/>
              </a:lnSpc>
              <a:spcBef>
                <a:spcPts val="689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nalog tools 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120000"/>
              </a:lnSpc>
              <a:spcBef>
                <a:spcPts val="638"/>
              </a:spcBef>
              <a:spcAft>
                <a:spcPts val="201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o-ordinate based tool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120000"/>
              </a:lnSpc>
              <a:spcBef>
                <a:spcPts val="638"/>
              </a:spcBef>
              <a:spcAft>
                <a:spcPts val="201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ools –&gt; T-Plan Robot, AutoI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120000"/>
              </a:lnSpc>
              <a:spcBef>
                <a:spcPts val="638"/>
              </a:spcBef>
              <a:spcAft>
                <a:spcPts val="201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Limitations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689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Object based tools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120000"/>
              </a:lnSpc>
              <a:spcBef>
                <a:spcPts val="638"/>
              </a:spcBef>
              <a:spcAft>
                <a:spcPts val="201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ks on internal objects/widgets of the GUI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120000"/>
              </a:lnSpc>
              <a:spcBef>
                <a:spcPts val="638"/>
              </a:spcBef>
              <a:spcAft>
                <a:spcPts val="201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ools -&gt;Squish,  TKReplay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0033cc"/>
                </a:solidFill>
                <a:latin typeface="Arial"/>
              </a:rPr>
              <a:t>Guidelines for developers</a:t>
            </a:r>
            <a:endParaRPr b="1" lang="en-US" sz="4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77547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rect use of internal function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of global array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of environment variable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of algorithmic function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xt representation of graphical display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800" spc="-1" strike="noStrike">
                <a:solidFill>
                  <a:srgbClr val="0033cc"/>
                </a:solidFill>
                <a:latin typeface="Arial"/>
              </a:rPr>
              <a:t>Use of Internal functions and global arrays</a:t>
            </a:r>
            <a:endParaRPr b="1" lang="en-US" sz="3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reateAnnotationFileWin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ddNetToAnnotationWin top.AIn[1:0]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ddNetToAnnotationWin top.BIn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ddNetToAnnotationWin top.w1[9:6]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ddNetToAnnotationWin top.YOut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ddNetToAnnotationWin top.ZOut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$annotationWin(fileTypeCB) invok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$annotationWin(fileTypeCB) selection set 1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$annotationWin(fileTypeCB) invok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aveAnnotationFil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629400" y="990720"/>
            <a:ext cx="2286000" cy="83808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Internal Function call t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create annotation wind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3657240" y="1371600"/>
            <a:ext cx="2971800" cy="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629400" y="2133720"/>
            <a:ext cx="2286000" cy="83808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Internal Function call t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dd net to annotation wind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553080" y="4038480"/>
            <a:ext cx="2286000" cy="83844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Internal Function call t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ave annotation 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553080" y="3200400"/>
            <a:ext cx="2286000" cy="68580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Call to global array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3200040" y="2666880"/>
            <a:ext cx="342900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2209320" y="3657600"/>
            <a:ext cx="434340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3048120" y="4495680"/>
            <a:ext cx="3504960" cy="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3200400" y="2437920"/>
            <a:ext cx="0" cy="22860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2209680" y="3428640"/>
            <a:ext cx="0" cy="22860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874548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800" spc="-1" strike="noStrike">
                <a:solidFill>
                  <a:srgbClr val="0033cc"/>
                </a:solidFill>
                <a:latin typeface="Arial"/>
              </a:rPr>
              <a:t>Use of algorithmic functions and environment variables</a:t>
            </a:r>
            <a:endParaRPr b="1" lang="en-US" sz="3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 findpath {fullpath separator tree}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# sanity checks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…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#tree search algorithm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…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# tree update 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…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# code for regressions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{[info exists ::env(MED_REGRESSIONS)]}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{$found}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msg “path found”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se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msg “path not found”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cho $msg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114800" y="3733920"/>
            <a:ext cx="304920" cy="2286000"/>
          </a:xfrm>
          <a:custGeom>
            <a:avLst/>
            <a:gdLst>
              <a:gd name="textAreaLeft" fmla="*/ 0 w 304920"/>
              <a:gd name="textAreaRight" fmla="*/ 110160 w 30492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943600" y="4267080"/>
            <a:ext cx="2590920" cy="106704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This part of code is enabl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nder an environment vari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4419360" y="47242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867280" y="1219320"/>
            <a:ext cx="2819520" cy="76176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lgorithmic function call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findpath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to perform complex GUI ope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1218960" y="1676520"/>
            <a:ext cx="464796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1219320" y="1447560"/>
            <a:ext cx="0" cy="22860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867280" y="2133720"/>
            <a:ext cx="2819520" cy="83808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The function performs oper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like tree search and tree upd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1905120" y="2514600"/>
            <a:ext cx="3962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800" spc="-1" strike="noStrike">
                <a:solidFill>
                  <a:srgbClr val="0033cc"/>
                </a:solidFill>
                <a:latin typeface="Arial"/>
              </a:rPr>
              <a:t>Text representation of Graphical display</a:t>
            </a:r>
            <a:endParaRPr b="1" lang="en-US" sz="3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228600" y="1143000"/>
            <a:ext cx="3733920" cy="480060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838760" y="1143000"/>
            <a:ext cx="4076640" cy="48769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3962520" y="3429000"/>
            <a:ext cx="914400" cy="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800" spc="-1" strike="noStrike">
                <a:solidFill>
                  <a:srgbClr val="0033cc"/>
                </a:solidFill>
                <a:latin typeface="Arial"/>
              </a:rPr>
              <a:t>Testing strategies for QA engineers</a:t>
            </a:r>
            <a:endParaRPr b="1" lang="en-US" sz="3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77547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5440" indent="-325440">
              <a:lnSpc>
                <a:spcPct val="120000"/>
              </a:lnSpc>
              <a:spcBef>
                <a:spcPts val="689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rification Point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689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nchronization point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689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of global procedure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689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ffline debug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120000"/>
              </a:lnSpc>
              <a:spcBef>
                <a:spcPts val="638"/>
              </a:spcBef>
              <a:spcAft>
                <a:spcPts val="201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Enable debugging screenshots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aurabh</dc:creator>
  <dc:description/>
  <dc:language>en-US</dc:language>
  <cp:lastModifiedBy>Sk</cp:lastModifiedBy>
  <dcterms:modified xsi:type="dcterms:W3CDTF">2010-10-15T13:10:09Z</dcterms:modified>
  <cp:revision>638</cp:revision>
  <dc:subject/>
  <dc:title>Tcl'201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