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29865"/>
        <c:axId val="98869446"/>
      </c:barChart>
      <c:catAx>
        <c:axId val="627298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69446"/>
        <c:crosses val="autoZero"/>
        <c:auto val="1"/>
        <c:lblAlgn val="ctr"/>
        <c:lblOffset val="100"/>
        <c:noMultiLvlLbl val="0"/>
      </c:catAx>
      <c:valAx>
        <c:axId val="98869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298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7B2-DD4E-4094-AFE7-D56727DF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85F5-7DFC-46A0-81ED-1ED9FD51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A27-A212-4305-9CCB-B6FD06BE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37F-76FF-43E5-87E2-12361066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82A4-BA6F-47B4-A1DC-25E38A0C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6C3C-31F5-4C6F-AD8E-ECCC2A7A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3F09-8E40-4C0D-8342-3823B87A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EA1C-74CE-42B9-88F7-74E3F1D0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B9E-C286-47DA-B19F-BD63DF3F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316-4258-4BD8-9D09-7BBF9D36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732-63FE-4554-9A7D-4B073942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1A37-244B-477B-A61F-8AC066A5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DCF01-7221-4DDE-B96C-3BD9E4B838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